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67BE-EBA8-4F18-8928-B12040570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049C-788A-4CC3-AB1B-D12617BF5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CC09-8697-49BC-9702-EC7685698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83CA-A8F7-4826-AFF9-CC413A1D4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C90E-9FF2-4805-921E-0FEF94B63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E932-C36E-40E9-91B6-DEBB65DB1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910F-FF8D-43F5-835A-7C37B32F9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29C8-1ABB-4B9C-B475-738B20E39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AA57-AE67-4854-A36B-728D29A55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D56F-BE3D-4942-A8A3-392C5153E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0870-F782-4A74-8EAF-7AF732928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DD55-523A-4750-B781-5BC580C67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9418-1364-4C94-85E7-5C211ED55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C33F-0A7E-4693-8BF7-3C8976F25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6B47-C0D0-43C2-8C34-7312F93A1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CDC0-3D82-4155-9449-F9EFB7734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4B66-D89C-4946-9C5B-D8860D415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A0FB-F7BD-424A-9148-1B0DB253E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5B7D-4D95-44E9-813B-70EB8A36C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9835-5E51-475F-B4A1-20CD703B1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76DC-8C3D-4D42-88AC-C1BD51A66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2170-A109-40BB-BD52-109D05E7F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6DEE-2326-44BA-B2AD-612C7A55E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FEFC-B2D9-47AF-9B4D-0BF38AE3B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B1CB-01D5-4B18-B279-1F79AE7A4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16D1-A22E-49A9-B607-6B2DF63EE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2BF9-1E7C-4570-89E3-993503A52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051A-35D1-4F1E-AECA-BB793ECBB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E18F-3643-4943-A001-CE8E8F61A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AAF7-454D-4B76-AD1F-88D3AE791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4A5E-A197-43EC-9375-6830C17AB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8668-A429-47BB-8936-D7163A8E8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4041-C063-460A-8A81-D9E951848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670F-840F-4BD0-85C2-0B61DCB72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E9E6-B76E-4E62-A62C-1FC6B1169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8AAB-F698-485C-B26F-5093B0E13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C4E2-8B9E-40E5-BEBE-2121831F9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DC3B-0964-416F-8FD1-61B64E868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AED4-DA35-416A-B2F5-74BAC3A1A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15C5-3AA8-4E8C-BE86-ECC7735EA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C555-67F0-46A9-BB2C-2728C20FE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C5E6-DA74-47F4-9082-A85D606E2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42C6-F335-47AD-BD9C-15867037A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5B40-5F2B-4C2A-9AEB-13BF6A047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6EE3-9CE7-435F-922F-E90DDE8FD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3EFF-3493-49AA-8DE6-8615FCBC1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DCE6-2025-4CEE-843F-FAA2C4A71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7217-E07B-4561-A6B1-3A053BEA2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61C0-4AE4-4F64-97E2-2F088DBE2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CF1A-9AA2-4030-B745-CF2515642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1A25-DE68-4DB1-A34B-EB7EEDEDC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4FE0-C5CE-4BDF-9D5F-2D3338150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4A0C-9DD4-4CD8-A14E-4CA28D5A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E40-4ABF-415E-ADD7-A2FB92D9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ADF73-F255-4865-ADD9-9A8E2C69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AE033-221A-472F-B268-1662D7BC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B494B-8AC5-47FE-BEA5-3CF7CB07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C9499-FA48-4614-AB83-8F8F26FC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6B729-36F2-4F25-AD7E-B95CB17B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D9534-7213-431A-82E4-17EAB61F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E1FE5-A806-429F-92DD-63C79546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E5078-FADF-4578-9DEB-FB422129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78DDB-AE4D-4F13-9175-5EA509EA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D88E6-4A72-4B2C-8242-D488A4EF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AA9-66B6-46F1-8040-7D5DCAAE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B5CCC-1E83-492C-AB95-098143E5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BEFD9-35CD-4055-A9F3-6563EBC1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8827F-78D1-4F14-B1AD-19E664C1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637E0-E028-4CEF-8E70-543E582E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ADCD5-FF9E-4F3B-9C37-76C5313A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79804-2C5C-43D6-9C39-C768CF73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ECF3A-6DE0-486D-98BB-DD6D63F0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654F1-7D96-4C72-84B7-8244FA17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3B9D5-ADD4-49A2-B9D8-EDDCC9BD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EAB75-F6B4-4FD9-B370-62736D44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EBE-89C6-453F-8A1C-C535C04C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D7E4A-E549-42E5-8808-A944BBE8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6E93C-C422-4CB9-863F-DBDD809E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B100F-5BCE-4E9C-B6CA-BD8E1C4C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0E8FA-F8B2-44D6-AD58-6AA760E5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9B7C0-C743-46B6-8A7C-7FDF78A6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2B132-0AB5-45D9-B05F-ABAB793B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2EDD9-65ED-4377-B203-0A298673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6FF8E-17EF-4925-923C-075EC465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60B4B-0324-4B57-BBD5-9B7AE182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3D831-C4E4-48EA-9134-291819F2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9E88-2FC3-45C5-BC9F-68F4C585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948A3-28F4-43EB-99E7-13622C44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0412C-2B8B-4215-AE45-2A786EFE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CDD2D-294F-465F-A886-4E4452BE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0C97E-BAB4-4EE3-A3E9-20652D91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FDC77-75A2-4703-BE2A-AFE37367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15F62-89A7-4FFE-8B17-08CC909B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9DC4E-FDAB-4C7F-859A-B767E2C5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E6FA3-8AE1-4C40-A1B3-45891B77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10E20-F87E-43E9-9CA7-FF0CFA39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0E0F3-0AF8-42E8-94BE-BF104F22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1FC3-18DC-4505-940B-4ED09E73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09E10-12F1-4BF0-A655-EFFBF174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96D4E-C204-41AA-A1BD-83FBB598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F89FA-B0DC-4595-8CBB-1D43FF0A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15162-EF3C-4498-93C5-77043169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76AC7-D08A-4CA8-BE06-9358BB2E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E628-2C27-47BA-9007-152FA9B9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0BFA-DA64-447D-9A6F-B6A3F995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746F-74C9-4348-8285-1691F628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2FDB-744E-42BD-82CE-AD8FFBB3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518F-AE52-4AFD-85D7-9D72470D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4157-A1B8-487C-85DC-45EB87FF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E340-07FB-4509-BFFF-A5B76E4D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5609-C20F-46F8-82D4-30926376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F80C-F4CF-4F6B-B12D-53ACFA78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F33F-179F-462D-8973-80E08D3B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DCBE-1B7A-4040-9CAD-B623D3A7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206C4-376F-40DF-A5BA-AFD16751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B3C2E-CBDB-4CA5-8BB5-B3B3DB7D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FC018-F58E-48BD-9E31-A714754B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C6ECB-F3BB-448B-B449-D81EB934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51313-67B5-4325-9E35-56BF9186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6EA-F48D-41D2-9E08-84B41F32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C46A5-3D92-41A5-8E5C-BF8899F7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F094D-6769-4078-A982-D48AA045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8087E-71E1-4C2D-949D-5CFB4D7D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F71E7-3382-4E78-8000-63A39C78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62C4C-CE21-456A-83B6-1BC938DD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AF38E-C1E4-47DA-9524-227C36B1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96DC9-9373-4F8D-83F0-A0FBD821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9ADF9-E24B-41EE-BCDF-DA3E141A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13166-8616-4300-8893-D10DA3D9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A8B63-B90A-4A87-B75F-C34617DF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5D7-5D3C-410B-9127-81E0AA18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E3545-B627-4A45-AB1D-50BF2141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23E3E-97DD-4F74-9C4F-B9748794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ECFE7-0D61-4DA7-9469-2A789635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AA903-BC00-466C-9434-15637B5F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E4910-AA10-4E17-892C-937D62DB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4A949-E535-474E-ADFC-0ECDB946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DE8EC-E128-4903-8112-4CDA4920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1D4EF-79EE-432B-865A-566AA278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1FBD9-3721-4C15-B23B-F987D305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B2808-181B-4945-A370-6A217687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03D7-28CD-446C-99B3-91184F15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E5A4A-8E61-4B8A-A9C7-10AFD738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C050A-DA42-4BF3-AED6-257ABC37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63EF6-EBA0-4721-B507-7AD91DA9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D0743-6B73-4AE8-AEC2-A1C4FC20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36293-B1FD-40B6-A389-1936C8DA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FA69B-8D83-4FEB-B6BC-58DEBAFE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15B2A-CF7A-4F09-A8CD-3D58289E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E5B2F-51B1-47E2-A4CE-036587C5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73FDE-5697-4B89-AF26-7F4B4A75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CF1A2-341C-4286-8DB4-51D81AD5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E0A-47B2-4903-86EE-88ECAB3B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9E5D0-23BD-4CB7-8D2D-F0135CEE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A7CBC-EC9E-44FD-AD9A-EEA179BA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11CEA-3727-48E2-BC1D-6AC77600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BD6F6-032A-4A20-B1A2-EB166735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CD433-2E52-4211-9F59-705EEED5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258F2-69BB-43E7-8A63-CFCF98B9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1D1A6-41D0-4905-8B60-AFB0F2AE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C00C0-D9DF-4C8A-9B94-F41D5522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F3EF2-D195-4F9F-A9AC-30AE7EB0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D9E7F-A805-4B15-BDF8-EEE10BBC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1DD4-14EC-46EB-8516-ADE78806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D3532-18AA-4D4C-9060-B826CE39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2FBED-8AF7-4FEB-BDA0-851816DC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2BA2F-D0C0-4DA7-958F-A8947B44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0CD33-B9EA-42A0-AC3C-6A863FD1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75EAA-F3FD-469B-8067-E285F017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3FA78-CF97-42FC-BD85-C725EA58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F803E-8CDE-42F0-9D5E-5FC64D62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9AF1B-A48B-428D-993D-AD35E07D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2D894-E711-4E81-A15F-6434E853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49EC2-F5BE-4AA2-93A0-D4119D9C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9994-DF11-4F50-87F1-98E7D8F2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74DE0-98EC-47DE-B870-0CC360A2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B21C9-F5B3-42C7-A681-1D0F08E9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4DA41-A027-4713-9A48-41FC4C1A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5986F-96A5-4E57-BF78-73E1A90F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3362D-E2DC-44DB-A7F7-56FBA8E9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3CC54-4195-4AC9-8E79-5700DB5F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AA522-1C68-46D8-B35F-990DD423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0E202-D363-4579-968F-6C90C819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34B08-A8A7-4549-8549-8C650769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98353-DD9F-4F7E-A5B1-4C056E14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C3D-ADA1-4072-AB2E-5979D95A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B223D-8BB4-4DFB-8F33-291D1E0D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BA2A0-0DFB-4107-AEBF-4DA3F8E2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34195-9B0E-47A5-9C61-3DB929F0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4D4E7-D60C-4702-9BDA-D2B97BCD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E300B-6DE3-442E-BDC7-A0B83A57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397EB-D149-48DF-AC76-054D4982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51086-EDA8-40C3-BD0E-D2F6B43F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5B41E-0EC6-4977-A7A8-FEC5A3E1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76458-EFEB-40A6-9809-AEA3BDE2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B92C4-AA8A-4E58-AEED-6ADE6897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6AB4-95C5-48E0-B625-9C41C6E20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4074-2C82-49C1-9398-0CEADBCE5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4110-FB03-4C34-A304-F5735EE30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FA91-5C21-41F0-8D38-B27AEC7AA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083F-2DF1-4BA8-ABFF-645F050F8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24BF-3580-4617-A434-52C77D4CA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793D-5D71-458A-B725-B6AB866C9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D201-A011-45EC-824F-A21F4AD44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44E6-7724-433B-B613-DBED061AE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259E-9B5D-415F-8965-B4A27B4E2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6B27-4C98-4C0F-B532-C054369D9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E45C-8EF8-4E05-937B-F6682F627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4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20.xml"/><Relationship Id="rId17" Type="http://schemas.openxmlformats.org/officeDocument/2006/relationships/slide" Target="slide20.xml"/><Relationship Id="rId18" Type="http://schemas.openxmlformats.org/officeDocument/2006/relationships/slide" Target="slide22.xml"/><Relationship Id="rId19" Type="http://schemas.openxmlformats.org/officeDocument/2006/relationships/slide" Target="slide22.xml"/><Relationship Id="rId20" Type="http://schemas.openxmlformats.org/officeDocument/2006/relationships/slide" Target="slide24.xml"/><Relationship Id="rId21" Type="http://schemas.openxmlformats.org/officeDocument/2006/relationships/slide" Target="slide24.xml"/><Relationship Id="rId22" Type="http://schemas.openxmlformats.org/officeDocument/2006/relationships/slide" Target="slide26.xml"/><Relationship Id="rId23" Type="http://schemas.openxmlformats.org/officeDocument/2006/relationships/slide" Target="slide26.xml"/><Relationship Id="rId24" Type="http://schemas.openxmlformats.org/officeDocument/2006/relationships/slide" Target="slide28.xml"/><Relationship Id="rId25" Type="http://schemas.openxmlformats.org/officeDocument/2006/relationships/slide" Target="slide28.xml"/><Relationship Id="rId26" Type="http://schemas.openxmlformats.org/officeDocument/2006/relationships/slide" Target="slide30.xml"/><Relationship Id="rId27" Type="http://schemas.openxmlformats.org/officeDocument/2006/relationships/slide" Target="slide30.xml"/><Relationship Id="rId28" Type="http://schemas.openxmlformats.org/officeDocument/2006/relationships/slide" Target="slide4.xml"/><Relationship Id="rId29" Type="http://schemas.openxmlformats.org/officeDocument/2006/relationships/slide" Target="slide32.xml"/><Relationship Id="rId30" Type="http://schemas.openxmlformats.org/officeDocument/2006/relationships/slide" Target="slide34.xml"/><Relationship Id="rId31" Type="http://schemas.openxmlformats.org/officeDocument/2006/relationships/slide" Target="slide36.xml"/><Relationship Id="rId32" Type="http://schemas.openxmlformats.org/officeDocument/2006/relationships/slide" Target="slide36.xml"/><Relationship Id="rId33" Type="http://schemas.openxmlformats.org/officeDocument/2006/relationships/slide" Target="slide38.xml"/><Relationship Id="rId34" Type="http://schemas.openxmlformats.org/officeDocument/2006/relationships/slide" Target="slide38.xml"/><Relationship Id="rId35" Type="http://schemas.openxmlformats.org/officeDocument/2006/relationships/slideLayout" Target="../slideLayouts/slideLayout85.xml"/><Relationship Id="rId3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90"/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91">
            <a:hlinkClick r:id="rId4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92">
            <a:hlinkClick r:id="rId6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7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1">
            <a:hlinkClick r:id="rId8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9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2">
            <a:hlinkClick r:id="rId10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1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3">
            <a:hlinkClick r:id="rId12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3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4">
            <a:hlinkClick r:id="rId14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5">
            <a:hlinkClick r:id="rId16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7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06">
            <a:hlinkClick r:id="rId18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9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07">
            <a:hlinkClick r:id="rId20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1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8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3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9">
            <a:hlinkClick r:id="rId24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0">
            <a:hlinkClick r:id="rId26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7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1">
            <a:hlinkClick r:id="rId28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9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2">
            <a:hlinkClick r:id="rId30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13">
            <a:hlinkClick r:id="rId31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14">
            <a:hlinkClick r:id="rId33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AR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AN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OC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nd arc DI (note: not drawn to scal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5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7620120" cy="4440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179.38°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An inscribed angle that measures 21°intercepts an arc with this measurement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42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2193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nd &lt; GO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610480" cy="5018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64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G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4" descr=""/>
          <p:cNvPicPr/>
          <p:nvPr/>
        </p:nvPicPr>
        <p:blipFill>
          <a:blip r:embed="rId1"/>
          <a:stretch/>
        </p:blipFill>
        <p:spPr>
          <a:xfrm>
            <a:off x="152280" y="0"/>
            <a:ext cx="8686800" cy="506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53.13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nd the m&lt;ED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4" descr=""/>
          <p:cNvPicPr/>
          <p:nvPr/>
        </p:nvPicPr>
        <p:blipFill>
          <a:blip r:embed="rId1"/>
          <a:stretch/>
        </p:blipFill>
        <p:spPr>
          <a:xfrm>
            <a:off x="685800" y="0"/>
            <a:ext cx="5867280" cy="480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20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9144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nd the measure of arc AG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Picture 6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458200" cy="4577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1143000" y="4800600"/>
            <a:ext cx="640080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&lt;DO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Picture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00200" y="0"/>
            <a:ext cx="5105520" cy="5016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80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nd the length of side N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7315200" cy="413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√7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193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nd the radius of the circl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Picture 4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4091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√10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nd the hypotenuse of the triangl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6934320" cy="3918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at is 15.86 c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nd the diame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4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010640" cy="396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16.74 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63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18288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nd the diame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05560" cy="4692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6 uni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 line contains the center of a circle and the midpoint of the chord, then the line is considered th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a PERPENDICULAR BISECTO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theorem proves that chord QR is congruent to chord 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0"/>
            <a:ext cx="4419360" cy="4419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441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i="1" lang="en-US" sz="8800" spc="-1" strike="noStrike">
                <a:solidFill>
                  <a:srgbClr val="000000"/>
                </a:solidFill>
                <a:latin typeface="Times New Roman"/>
              </a:rPr>
              <a:t>SAS congruenc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33160" y="42670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ind the length of O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1"/>
          <a:stretch/>
        </p:blipFill>
        <p:spPr>
          <a:xfrm>
            <a:off x="609480" y="0"/>
            <a:ext cx="7162920" cy="4540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7 fee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175248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is the length of MP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4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162920" cy="4741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13.42 fee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06668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measure of arc A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8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4657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90360" y="472428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length of chord Q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4" descr=""/>
          <p:cNvPicPr/>
          <p:nvPr/>
        </p:nvPicPr>
        <p:blipFill>
          <a:blip r:embed="rId1"/>
          <a:stretch/>
        </p:blipFill>
        <p:spPr>
          <a:xfrm>
            <a:off x="990720" y="0"/>
            <a:ext cx="7315200" cy="484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at is 57.13 fee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 line segment from the center of the circle to any point on the circle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a RADIU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n angle whose vertex is at the center of the circle and whose sides are radi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a CENTRAL ANG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n angle whose vertex is on the circle and whose sides are chords of the circ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1143000" y="52574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an INSCRIBED ANGLE</a:t>
            </a:r>
            <a:br>
              <a:rPr sz="7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 portion of the circumfere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an AR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66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set of all points in a plane that are equidistant from a fixed point, which is called the cent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a CIRC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4495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nd arc 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1"/>
          <a:stretch/>
        </p:blipFill>
        <p:spPr>
          <a:xfrm>
            <a:off x="304920" y="0"/>
            <a:ext cx="6933960" cy="478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133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023240" y="5118120"/>
            <a:ext cx="1193760" cy="11937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9810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nd arc D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943600" cy="441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136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21:52:46Z</dcterms:created>
  <dc:creator>Grant County High School</dc:creator>
  <dc:description/>
  <dc:language>en-US</dc:language>
  <cp:lastModifiedBy>Becca Rapoport</cp:lastModifiedBy>
  <cp:lastPrinted>2017-04-26T11:48:06Z</cp:lastPrinted>
  <dcterms:modified xsi:type="dcterms:W3CDTF">2017-04-26T18:50:27Z</dcterms:modified>
  <cp:revision>145</cp:revision>
  <dc:subject/>
  <dc:title>No Slide Title</dc:title>
</cp:coreProperties>
</file>